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895-2456-4E3B-8037-B590D0D6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EE2-0B22-41AB-BC76-091AFCF1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7C3-8CC8-4A65-917B-649F7AD1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044-C2F3-42C7-A88D-510176E1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0DD-522E-488B-BCE4-A35251FD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DFD-A1B6-4AEA-8B13-69228CCB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1D4-9714-4E59-A699-3A2ACA91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127-C785-4313-A36E-29FE1CF7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9CAE-7226-410A-ADF6-BDDE4136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2AFF-798D-4A86-87F2-FF70297A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EC7-F720-4BB4-B025-75E901ED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760-D86C-4EA8-81C8-74702F92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4D09-469B-4468-8267-D495C74FD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 здоровом теле здоровый дух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4-а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L271450"/>
          <p:cNvPicPr/>
          <p:nvPr/>
        </p:nvPicPr>
        <p:blipFill>
          <a:blip r:embed="rId1"/>
          <a:stretch/>
        </p:blipFill>
        <p:spPr>
          <a:xfrm>
            <a:off x="1403280" y="2276640"/>
            <a:ext cx="6408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, ну-ка, мальчик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DSC0006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DSC00060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ружные болельщики 4-а кла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Один за всех и все за одн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DSC00058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Ура ! Мы победил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SC00065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DSC00068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8:38:51Z</dcterms:created>
  <dc:creator>User</dc:creator>
  <dc:description/>
  <dc:language>en-US</dc:language>
  <cp:lastModifiedBy>ира</cp:lastModifiedBy>
  <dcterms:modified xsi:type="dcterms:W3CDTF">2010-06-10T04:20:35Z</dcterms:modified>
  <cp:revision>4</cp:revision>
  <dc:subject/>
  <dc:title>В здоровом теле здоровый дух</dc:title>
</cp:coreProperties>
</file>