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17F-7CE5-49C0-A796-B5B6D927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184-B393-454A-817A-BB0A664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5AB-B43D-44D6-9AAD-BE05FC2D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02C-4C85-497D-A58B-1497CBCD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27A2-5497-4C10-8DFB-CB201214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8829-0153-4665-8DC7-F4440D2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C10-D06B-4AB1-BEEE-BC8E0575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3A84-01AD-47D5-B057-7007BD1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53D6-639F-4396-953C-7F912BBE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E75A-8A71-46C0-A8C8-1B8D2DEC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F44-5A7F-4E81-A138-E57D229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68D-BED8-4EF1-9A87-9B2F83A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5BF1-58EE-485E-A028-DFED951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B1EA-F4D2-49F1-81DC-C448E780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8EBA-8CD2-4285-8D79-666005D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C68E-5EDD-42B8-8F34-D9C7C27C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D112-5EC9-4763-B4C0-CEF6B02B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B51-765F-4BE1-AB6E-09202A89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BEA-A78E-48D7-B32D-94CBE23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DD0-7D18-4BE0-B965-4CBC94E0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9BE-0081-4F64-8919-E218EF9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16E-DE9E-4A7F-9ABB-B41C3E59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DB1-441E-4019-8751-968A623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3B4-A9E0-44BD-AC8A-6190A73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492-D244-4F68-970D-992327101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AB2B-D2E6-47D0-AA9F-9671307B8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езентация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кие 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: Рыжова И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айц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хомячо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рызун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рызун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10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рызун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ол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лис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1680" y="692280"/>
            <a:ext cx="8842320" cy="616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Бурый медведь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ёжи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6:44Z</dcterms:created>
  <dc:creator>User</dc:creator>
  <dc:description/>
  <dc:language>en-US</dc:language>
  <cp:lastModifiedBy>User</cp:lastModifiedBy>
  <dcterms:modified xsi:type="dcterms:W3CDTF">2008-12-08T17:12:47Z</dcterms:modified>
  <cp:revision>2</cp:revision>
  <dc:subject/>
  <dc:title>Презентация урока</dc:title>
</cp:coreProperties>
</file>