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683-D5B6-4AD9-A54B-E5F3D7C5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9D0-C3A3-4226-A0E0-F3624352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DD9-DF67-47BF-875C-F7E93BE8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08A-8C32-40CA-9DA9-2D4E5ACD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CD95-4932-4904-B796-F21EF982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08A6-A788-4FC8-BD3E-74677A81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165D-D557-4716-8158-B52A221D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7B98-372A-4F4F-AB08-AC20D64E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9019-C1FC-47F3-9583-F4E68674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DB00-E379-4742-8C0C-F77139D9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289E-4AE0-41DA-B62B-3888655D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D6D-0EAB-42B8-B1AB-CEC60F60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6413-4D53-46FC-868E-6910C8A4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6D89-5AF2-49DE-9CA3-5ECEDF47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3322-C8ED-4FCD-BC53-5507391B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B8AA-186A-4D1F-9C4F-580B77BC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5460-C478-431C-83EF-B390DEE2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DD5-E8B6-4BC8-9CF7-48CBC9E4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73A3-F3DD-4CAF-B9CD-2A4DB388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2B4-278A-4A86-96F2-69A9423B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71D-2F5B-41F4-AD6C-8F875002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C7F-F64A-441E-8365-45F71152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83B-69B7-4755-BFF1-7AB8CFFC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0C6-3C39-42A3-B51D-1800E3E4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8595-11F4-4880-880F-310307E0AA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B6EC-1E8A-44C1-9231-FC3B5728D8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student_samples/student_presentation/&#1042;&#1089;&#1077;&#1075;&#1076;&#1072;%20&#1083;&#1080;%20&#1087;&#1086;&#1083;&#1077;&#1079;&#1085;&#1099;%20&#1083;&#1077;&#1082;&#1072;&#1088;&#1089;&#1090;&#1074;&#1077;&#1085;&#1085;&#1099;&#1077;%20&#1088;&#1072;&#1089;&#1090;&#1077;&#1085;&#1080;&#1103;.ppt" TargetMode="External"/><Relationship Id="rId2" Type="http://schemas.openxmlformats.org/officeDocument/2006/relationships/hyperlink" Target="file:///../../student_samples/stndent_publication/&#1073;&#1091;&#1082;&#1083;&#1077;&#1090;.pub" TargetMode="External"/><Relationship Id="rId3" Type="http://schemas.openxmlformats.org/officeDocument/2006/relationships/hyperlink" Target="file:///student_support/&#1082;&#1088;&#1086;&#1089;&#1089;&#1074;&#1086;&#1088;&#1076;.xls" TargetMode="External"/><Relationship Id="rId4" Type="http://schemas.openxmlformats.org/officeDocument/2006/relationships/hyperlink" Target="file:///../student_support/&#1058;&#1077;&#1089;&#1090;.doc" TargetMode="External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hotoworks.ru/" TargetMode="External"/><Relationship Id="rId2" Type="http://schemas.openxmlformats.org/officeDocument/2006/relationships/hyperlink" Target="http://www.yandex.ru/" TargetMode="Externa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849840"/>
                <a:tab algn="l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            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расоту трудно судить…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                           Красота – загадка.</a:t>
            </a:r>
            <a:br>
              <a:rPr sz="18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Ф.М. Достоевский.</a:t>
            </a:r>
            <a:br>
              <a:rPr sz="1600"/>
            </a:br>
            <a:br>
              <a:rPr sz="20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елёная одежда Земли</a:t>
            </a:r>
            <a:br>
              <a:rPr sz="3600"/>
            </a:br>
            <a:br>
              <a:rPr sz="24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Растения: друзья или враги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076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чебный проект по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окружающему миру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и ОБЖ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Автор: Рыжова Ирина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Геннадьевна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сош №7 г. Балаково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588000" y="3213000"/>
            <a:ext cx="1656000" cy="1500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Результаты исследований будут представлены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924280"/>
            <a:ext cx="3775320" cy="31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В презент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В букле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Кроссвор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Тес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588000" y="4508640"/>
            <a:ext cx="1800360" cy="195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Информационные ресурсы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81471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Материалы на печатной основ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ксёнова М.Д.Энциклопедия для детей .-М.: Аванта+, 2003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агрова Л.А. Детская энциклопедия. Я познаю мир. -М.:ООО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«Издательство АСТ»,1998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иноградова Н.Ф.Окружающий мир 2кл. –М.: «Вентана Граф»,2009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ураева А.Д. Лекарственные растения. –М.: « Медицина»,1984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Интернет-ресурс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photoworks.ru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yandex.ru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716880" y="5157720"/>
            <a:ext cx="2427120" cy="1433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ой вопрос</a:t>
            </a:r>
            <a:br>
              <a:rPr sz="28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стения: друзья или враги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728352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просы учебной те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гут ли ядовитые растения быть полезным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сегда ли лекарственные растения приносят польз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кую роль играют растения в жизни людей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чему растения называют « зелёной одеждой Земли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чему животные и люди не могут жить на Земле без растений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?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67640" y="4653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Учебные предметы:</a:t>
            </a:r>
            <a:br>
              <a:rPr sz="24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Окружающий мир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ОБЖ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2781360"/>
            <a:ext cx="768204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частник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ченики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клас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нформационные ресурс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чебные пособия, учебники, справочный материал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энциклопедии, Интернет-ресурсы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588000" y="4581360"/>
            <a:ext cx="1938600" cy="1716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Дидактические цели проект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Формирование экологической культур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мений увидеть проблему и наметить пути её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ш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мпетентности в сфере самостоятельной деятель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сширить знания учащихся о растения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Методические задач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Научить школьников обрабатывать и обобщать полученную информацию из различных источник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оформлять презентацию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учить сравнивать и сопоставля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Вопросы для самостоятельного исследования учащихся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3628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сегда ли лекарственные растения приносят человеку польз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Ядовитые растения вредны - они же полезн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оль растений в жизни челове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олнце и расте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ожет ли человек прожить без растени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075440" y="4365720"/>
            <a:ext cx="1673280" cy="2122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тапы и сроки проведения проект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492280"/>
            <a:ext cx="77040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.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рганизационно-подготовительны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этап (1 неделя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становка пробле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ставление плана дей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рмирование груп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спределение заданий внутри групп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суждение возможных источников информац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I.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Сбор информации(2-3 недели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ход в библиотек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ход на природ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бота с Интернет-ресурс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II.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Заключительный этап (4-5 неделя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6000" y="2708280"/>
            <a:ext cx="77040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бор творческого наз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формление результатов исследований (в виде творческих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бот, презентаций и тд.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щита проект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флексия деятельности участников проек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732720" y="4653000"/>
            <a:ext cx="1804680" cy="1758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8:03:58Z</dcterms:created>
  <dc:creator>2comp</dc:creator>
  <dc:description/>
  <dc:language>en-US</dc:language>
  <cp:lastModifiedBy>Admin</cp:lastModifiedBy>
  <dcterms:modified xsi:type="dcterms:W3CDTF">2010-06-04T19:13:59Z</dcterms:modified>
  <cp:revision>13</cp:revision>
  <dc:subject/>
  <dc:title>проект</dc:title>
</cp:coreProperties>
</file>